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2CB-065E-4A7F-9C65-A3173850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8BD-4233-4A83-9798-7E53B95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A1C-8136-4C25-B842-E6C69B5B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72D-A758-4A16-A584-133BFE9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D6C-8F9B-4749-998C-D9C756F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8E0-D2CC-4602-9745-C78D7049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0F3-B9E5-4945-AD9E-3C979D0B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308-3BA6-4160-83C1-6BB44AB7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E4C-F0E9-4ABF-A3A5-139567D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EAB-4EB2-4855-87EB-D9934EE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7D7-B82D-47E6-82E0-D9E0A664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8C9-82A9-43FC-8D35-5C988120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83F-B014-4ED8-90DF-58B6AB73A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Comic Sans MS"/>
              </a:rPr>
              <a:t>Reading is THINK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5 Tips on how to THINK while you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1:  PREDI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ke a guess (prediction) about what is going to be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2: 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k yourself “Do I understand what I am read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k yourself additional questions about th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3:  Summar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fter you read, are you able to explain what you have just read (in YOUR wor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4:  Making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n you 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relate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to what you just 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Does the text remind you of something / someone you already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Tip 5:  Evalu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Judge what you r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4:56:13Z</dcterms:created>
  <dc:creator>BPS</dc:creator>
  <dc:description/>
  <dc:language>en-US</dc:language>
  <cp:lastModifiedBy>BPS</cp:lastModifiedBy>
  <dcterms:modified xsi:type="dcterms:W3CDTF">2009-10-27T15:23:17Z</dcterms:modified>
  <cp:revision>7</cp:revision>
  <dc:subject/>
  <dc:title>Reading is THINKING</dc:title>
</cp:coreProperties>
</file>